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BB0B-ABE7-4881-B048-2EC5101B3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B49-1D65-47B6-927C-C0BD3B04F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D5B1-1D9F-49C0-B6E5-75DB968C6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0DD5-368B-4226-BC51-E7218475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904B-6E4B-4098-A29A-09D2C039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65BD-E561-4EC9-BFF1-6E1447E44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66A2-E216-4F91-82B3-3902B5ED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6C78-30DA-4D54-A84F-7BE970C8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E205-4F1A-4C6A-A887-30684CD6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A1D1-8151-4F47-A306-A59BF51EC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391-B477-476C-8775-1B8347F0A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C700-67D8-481E-92F5-BE87892E4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022C-5B64-4F9C-BF96-D13494965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A5CC-2DC9-49B1-9EA3-15C5C1C7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2F20-FC2A-4F98-91F7-D4527F874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2BD1-94FA-4D7C-9164-143025A3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E29-F3CD-49A4-8A2B-815E6858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CF1-C8A4-4BDB-82FC-ABEC1E81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98C-929A-46F9-91BF-5C42261A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2EF-7E3D-4232-BB91-3CA0C9AF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007-DC3A-4FE9-9F5D-31C470E3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A8B-62E6-4D1B-BEE4-EC31F94B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DE1-104F-4DFD-843A-D505A62C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84AD-9CA3-44C7-AE8F-86E2257E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344-A43F-476E-969D-B48E4B02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15E-9EF2-443F-95C5-23CF4CDD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F2E-CACA-4689-9489-5F86478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832-F8DC-4957-853C-75D0C32D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14EE-EF41-49B6-81D4-B9F28D719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314840"/>
            <a:ext cx="36576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00"/>
                </a:solidFill>
                <a:latin typeface="Arial"/>
              </a:rPr>
              <a:t>ぽに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onyo title"/>
          <p:cNvPicPr/>
          <p:nvPr/>
        </p:nvPicPr>
        <p:blipFill>
          <a:blip r:embed="rId1"/>
          <a:srcRect l="0" t="0" r="0" b="26247"/>
          <a:stretch/>
        </p:blipFill>
        <p:spPr>
          <a:xfrm>
            <a:off x="0" y="-1600200"/>
            <a:ext cx="682956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533880" y="6933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これ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　は　そすけさん　で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そすけさん　は　５さい　で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sosukei 2"/>
          <p:cNvPicPr/>
          <p:nvPr/>
        </p:nvPicPr>
        <p:blipFill>
          <a:blip r:embed="rId1"/>
          <a:stretch/>
        </p:blipFill>
        <p:spPr>
          <a:xfrm>
            <a:off x="-1219320" y="1371600"/>
            <a:ext cx="8763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533880" y="6933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そすけさん　は　おとこのこ　で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sosukei"/>
          <p:cNvPicPr/>
          <p:nvPr/>
        </p:nvPicPr>
        <p:blipFill>
          <a:blip r:embed="rId1"/>
          <a:srcRect l="47244" t="0" r="17717" b="0"/>
          <a:stretch/>
        </p:blipFill>
        <p:spPr>
          <a:xfrm>
            <a:off x="1371600" y="304920"/>
            <a:ext cx="428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533880" y="6933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うち　に　すんで　いま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osukei's home 2"/>
          <p:cNvPicPr/>
          <p:nvPr/>
        </p:nvPicPr>
        <p:blipFill>
          <a:blip r:embed="rId1"/>
          <a:stretch/>
        </p:blipFill>
        <p:spPr>
          <a:xfrm>
            <a:off x="0" y="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533880" y="6933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これ　は　おかあさん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asukei and mother"/>
          <p:cNvPicPr/>
          <p:nvPr/>
        </p:nvPicPr>
        <p:blipFill>
          <a:blip r:embed="rId1"/>
          <a:stretch/>
        </p:blipFill>
        <p:spPr>
          <a:xfrm>
            <a:off x="0" y="2286000"/>
            <a:ext cx="70866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05280" y="7010280"/>
            <a:ext cx="786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これ　は　おとうさん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osukei's father 2"/>
          <p:cNvPicPr/>
          <p:nvPr/>
        </p:nvPicPr>
        <p:blipFill>
          <a:blip r:embed="rId1"/>
          <a:stretch/>
        </p:blipFill>
        <p:spPr>
          <a:xfrm>
            <a:off x="0" y="2133720"/>
            <a:ext cx="78487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305280" y="7010280"/>
            <a:ext cx="786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さすけさん　と</a:t>
            </a:r>
            <a:r>
              <a:rPr b="0" lang="en-A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　ぽに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Times New Roman"/>
              </a:rPr>
              <a:t>は　ともだち　で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ponyo and sasuke 6"/>
          <p:cNvPicPr/>
          <p:nvPr/>
        </p:nvPicPr>
        <p:blipFill>
          <a:blip r:embed="rId1"/>
          <a:stretch/>
        </p:blipFill>
        <p:spPr>
          <a:xfrm>
            <a:off x="-990720" y="1447920"/>
            <a:ext cx="80773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6705360"/>
            <a:ext cx="58863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これ　は　ぽ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にょ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onyo"/>
          <p:cNvPicPr/>
          <p:nvPr/>
        </p:nvPicPr>
        <p:blipFill>
          <a:blip r:embed="rId1"/>
          <a:stretch/>
        </p:blipFill>
        <p:spPr>
          <a:xfrm>
            <a:off x="0" y="0"/>
            <a:ext cx="6858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080" y="7010280"/>
            <a:ext cx="63435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ぽによ　は　さかな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63640" y="225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onyo 5"/>
          <p:cNvPicPr/>
          <p:nvPr/>
        </p:nvPicPr>
        <p:blipFill>
          <a:blip r:embed="rId1"/>
          <a:stretch/>
        </p:blipFill>
        <p:spPr>
          <a:xfrm>
            <a:off x="-1143000" y="1371600"/>
            <a:ext cx="87631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520" y="67816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うみ　に　すんで　います。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ocean"/>
          <p:cNvPicPr/>
          <p:nvPr/>
        </p:nvPicPr>
        <p:blipFill>
          <a:blip r:embed="rId1"/>
          <a:stretch/>
        </p:blipFill>
        <p:spPr>
          <a:xfrm>
            <a:off x="0" y="1219320"/>
            <a:ext cx="6858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7162920"/>
            <a:ext cx="6343560" cy="16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ぽにょ　は　ちいさい　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n the sea 2"/>
          <p:cNvPicPr/>
          <p:nvPr/>
        </p:nvPicPr>
        <p:blipFill>
          <a:blip r:embed="rId1"/>
          <a:stretch/>
        </p:blipFill>
        <p:spPr>
          <a:xfrm>
            <a:off x="1371600" y="0"/>
            <a:ext cx="43624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68576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ぽにょ　は　かわいい　で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nyo 8"/>
          <p:cNvPicPr/>
          <p:nvPr/>
        </p:nvPicPr>
        <p:blipFill>
          <a:blip r:embed="rId1"/>
          <a:stretch/>
        </p:blipFill>
        <p:spPr>
          <a:xfrm>
            <a:off x="-914400" y="609480"/>
            <a:ext cx="83059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80880" y="6934320"/>
            <a:ext cx="7619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む　が　すき　で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onyo and ham3"/>
          <p:cNvPicPr/>
          <p:nvPr/>
        </p:nvPicPr>
        <p:blipFill>
          <a:blip r:embed="rId1"/>
          <a:srcRect l="0" t="0" r="50293" b="0"/>
          <a:stretch/>
        </p:blipFill>
        <p:spPr>
          <a:xfrm>
            <a:off x="0" y="0"/>
            <a:ext cx="6858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80880" y="6934320"/>
            <a:ext cx="7619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て　が　ほしい　で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あし　が　ほしい　で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onyo with arms an legs"/>
          <p:cNvPicPr/>
          <p:nvPr/>
        </p:nvPicPr>
        <p:blipFill>
          <a:blip r:embed="rId1"/>
          <a:stretch/>
        </p:blipFill>
        <p:spPr>
          <a:xfrm>
            <a:off x="0" y="1752480"/>
            <a:ext cx="6858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05280" y="7010280"/>
            <a:ext cx="786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ぽにょ　は　おんなのこ　に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なりまし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onyo 4"/>
          <p:cNvPicPr/>
          <p:nvPr/>
        </p:nvPicPr>
        <p:blipFill>
          <a:blip r:embed="rId1"/>
          <a:stretch/>
        </p:blipFill>
        <p:spPr>
          <a:xfrm>
            <a:off x="-1295280" y="0"/>
            <a:ext cx="12573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0:15:40Z</dcterms:created>
  <dc:creator>Department of Education - Victoria</dc:creator>
  <dc:description/>
  <dc:language>en-US</dc:language>
  <cp:lastModifiedBy>DEECD</cp:lastModifiedBy>
  <cp:lastPrinted>2010-06-22T00:00:16Z</cp:lastPrinted>
  <dcterms:modified xsi:type="dcterms:W3CDTF">2011-03-30T05:13:18Z</dcterms:modified>
  <cp:revision>4</cp:revision>
  <dc:subject/>
  <dc:title>ぽんよ</dc:title>
</cp:coreProperties>
</file>